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46AB0-D793-40D6-8138-147EC347C9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A0BEF-FD21-439F-AF80-0B4729A90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4BF84-1BD0-450D-8CEC-76DCA269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022D9-AD17-4088-89EC-0485863F8A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C685E-BB11-482E-9D4F-C533CE748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C05DCC-7640-4C22-8149-C5A4413C9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0592C8-9B9C-4AC3-B548-6DD762DED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AB0716-C88A-4642-A70D-22BB84B33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FB872D-2C5C-4E3D-8695-F4D0FAF09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A6B7E1-4AA0-4FE3-A1D5-FF2E002B0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3517A-009F-47CC-BEEA-D4765F327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A00A8F-AE92-40EA-BD3B-022158244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C95F62-61FA-4805-8F83-9F3DAFB0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E20FAE-7320-4CF0-AEC7-8DF1CD67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115D78-8539-4463-9E49-3F02DE90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6A0F3F-5C34-45BF-8105-79E3EAC56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1BB635-BB04-470B-B9EB-84F5200AB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D9517E-6EE6-477C-8C95-56456D3FC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B01BA-D4A1-4AB7-A861-4103CBA53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A0EEE-00CE-4597-BEE4-4682C3EE8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860D5-3B26-4DC2-BF35-18156F855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17B1A-B3B4-45A9-8819-65A91BFE2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88351-91FD-4BAE-A936-D079C7377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3CA2D-6E05-4224-AEE7-B24AB5857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995AC-7310-4279-9E5E-6AB863EB699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D0F90-F562-4569-84EE-DE120E554E49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000" y="3141360"/>
            <a:ext cx="5616360" cy="1439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四节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脊髓损伤的康复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6588000" y="572292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姚立新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000" y="1268280"/>
            <a:ext cx="404316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三、康复护理评定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353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损伤平面的评定 脊髓损伤平面是指保留身体双侧正常感觉、运动功能的最低脊髓节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脊髓损伤节段  根据各节段脊髓所支配肌肉的肌力检查及皮肤感觉检查来判定；主要以运动损伤平面来确定，但在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C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C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L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及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S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S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脊髓节段，以感觉损伤平面确定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61928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971280" y="1341000"/>
            <a:ext cx="756108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运动检查：检查身体两侧各自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肌节中关键肌的肌力，采用徒手肌力评定，根据肌力至少为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级的那块关键肌来确定运动平面，要求该平面以上的节段支配的关键肌肌力必须是正常的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级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对于应用徒手肌力检查无法检查的肌节，运动平面可参考感觉平面来确定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26920" y="1599840"/>
            <a:ext cx="784872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感觉检查：是检查身体两侧各自的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8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皮节关键点的感觉。每个关键点要检查两种感觉，即针刺觉和轻触觉，并按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等级分别评定打分。同时做肛门周围感觉检查。通过感觉项目的检查可以判断神经平面（感觉平面）和部分保留区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4000" y="1197000"/>
            <a:ext cx="7283160" cy="13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损伤程度的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              </a:t>
            </a:r>
            <a:r>
              <a:rPr b="1" lang="zh-CN" sz="2000" spc="-1" strike="noStrike">
                <a:solidFill>
                  <a:srgbClr val="fe230c"/>
                </a:solidFill>
                <a:latin typeface="宋体"/>
                <a:ea typeface="宋体"/>
              </a:rPr>
              <a:t>美国脊髓损伤学会（</a:t>
            </a:r>
            <a:r>
              <a:rPr b="1" lang="en-US" sz="2000" spc="-1" strike="noStrike">
                <a:solidFill>
                  <a:srgbClr val="fe230c"/>
                </a:solidFill>
                <a:latin typeface="宋体"/>
                <a:ea typeface="宋体"/>
              </a:rPr>
              <a:t>ASIA</a:t>
            </a:r>
            <a:r>
              <a:rPr b="1" lang="zh-CN" sz="2000" spc="-1" strike="noStrike">
                <a:solidFill>
                  <a:srgbClr val="fe230c"/>
                </a:solidFill>
                <a:latin typeface="宋体"/>
                <a:ea typeface="宋体"/>
              </a:rPr>
              <a:t>）分类法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68360" y="2492280"/>
          <a:ext cx="8207280" cy="3795840"/>
        </p:xfrm>
        <a:graphic>
          <a:graphicData uri="http://schemas.openxmlformats.org/drawingml/2006/table">
            <a:tbl>
              <a:tblPr/>
              <a:tblGrid>
                <a:gridCol w="820728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脊髓损伤类型                       运动感觉功能状况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5120">
                <a:tc>
                  <a:txBody>
                    <a:bodyPr anchor="t">
                      <a:noAutofit/>
                    </a:bodyPr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A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完全性损害       在骶段（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2000" spc="-1" strike="noStrike" baseline="-30000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2000" spc="-1" strike="noStrike" baseline="-30000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）无任何感觉及运动功能保留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B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不完全性损害   在损伤神经平面以下包括骶段（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2000" spc="-1" strike="noStrike" baseline="-30000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2000" spc="-1" strike="noStrike" baseline="-30000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）存在感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功能，但不存在运动功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C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不完全性损害   在损伤神经平面以下存在运动功能，并且大部分关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键肌的肌力小于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D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不完全性损害   在损伤神经平面以下存在运动功能，并且大部分关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键肌肌力大于或等于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E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正常                     感觉和运动均正常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26920" y="1052280"/>
            <a:ext cx="74678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评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震惊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否定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抑郁或焦虑反应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对抗独立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适应阶段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755280" y="2637000"/>
            <a:ext cx="777708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 ADL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评定：截瘫患者可采用改良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arth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指数评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5280" y="1700280"/>
            <a:ext cx="60469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四、康复护理措施（早期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50560" y="2852640"/>
            <a:ext cx="793116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体位：骨折稳定后，提倡患者仰卧、侧卧及俯卧位变换，并逐步增加俯卧位的耐力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154764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072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.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皮肤护理和压疮防治：卧床患者每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h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翻身一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压疮的预防：关键在于加强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压疮的分度：根据其严重程度分为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Ⅰ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有红斑，但皮肤完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Ⅱ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皮肤有破损，累及表皮或真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Ⅲ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皮肤破坏深达皮肤全层，但未穿过皮下组织，筋膜之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Ⅳ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组织破溃深达肌肉或骨组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1"/>
          <p:cNvSpPr/>
          <p:nvPr/>
        </p:nvSpPr>
        <p:spPr>
          <a:xfrm>
            <a:off x="1116000" y="1916280"/>
            <a:ext cx="720108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）压疮临床分期：根据压疮的表现一般分为</a:t>
            </a:r>
            <a:r>
              <a:rPr b="1" lang="en-US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期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淤血红润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炎性浸润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浅度溃烂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坏死溃疡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136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压疮的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全身治疗：压疮患者应给予高蛋白质、高热量、高纤维素饮食，还可给予静脉滴注血浆、白蛋白、丙种球蛋白等以增强全身抵抗力。同时使用有效抗生素控制感染，防止感染扩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局部治疗：局部治疗的原则主要是解除压迫，保护创面，促进愈合。根据压疮的不同时期，选择合适的治疗方法，如物理治疗、药物治疗、内膜覆盖、空气隔绝后持续吹氧法以及外科手术等方法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826920" y="952560"/>
            <a:ext cx="640908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一、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611280" y="1700280"/>
            <a:ext cx="806436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定义：脊髓损伤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spinal cord injury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SCI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是指由于外伤或疾病等因素引起的脊髓结构和功能的损害，导致损伤水平以下运动、感觉和自主神经功能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脊髓损伤的分类：外伤性脊髓损伤及非外伤性脊髓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68000" y="1268280"/>
            <a:ext cx="806436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呼吸道护理：主要是呼吸及排痰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主动或被动活动：适当的关节活动是预防压疮、关节挛缩等问题的重要措施。当患者被动地躺在床上和翻身架上时，各生理轴向全范围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训练，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次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天，每次每个关节应至少活动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4360" y="1483920"/>
            <a:ext cx="741672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膀胱：分为上运动神经源性膀胱和下运动神经源性膀胱。上运动神经源性膀胱的处理方法包括留置导尿管、间歇导尿和用避孕套外接尿液（对男性而言）。下运动神经源性膀胱的处理方法为间歇导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4000" y="1484280"/>
            <a:ext cx="806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膀胱的间歇导尿康复护理方法包括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导尿：急性期患者需留置导尿管持续导尿，随着病情的恢复逐渐改为间歇开放导尿和间歇导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诱发逼尿肌反射排尿法：寻找患者身体的触发点，刺激排尿。如下腹、大腿内侧及耻骨处，用敲击或冰敷可刺激排尿，也可嘱患者自行牵拉阴毛触发排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1"/>
          <p:cNvSpPr/>
          <p:nvPr/>
        </p:nvSpPr>
        <p:spPr>
          <a:xfrm>
            <a:off x="826920" y="1844640"/>
            <a:ext cx="76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）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Crede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方法：将手掌放在膀胱区上面触摸到膀胱底部后，再缓缓向下压挤中间，不要停顿或放松。对痉挛性膀胱或膀胱输尿管反流者禁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）膀胱功能训练：要求按时饮水及间歇开放导尿管。饮水量控制在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1600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2000ml/d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200ml/2h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，并开放导尿管一次，入睡后可持续引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684360" y="1628280"/>
            <a:ext cx="820872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大便控制障碍：脊髓损伤患者常表现为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合理的营养调配可以改善便秘的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指导患者定时排便：教会家属用手指按摩直肠诱发排便反射，严重便秘者需手工清除大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药物治疗：包括果导、番泻叶、乳果糖、开塞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68360" y="1844280"/>
            <a:ext cx="7858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直立活动：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利用摇床，逐步抬高床头角度，患者有不适时即放下，维持时间逐步延长。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利用斜板或电动倾斜床，逐步让患者处于直立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4" name="Picture 4" descr="Y83{N2)[)_I%DZC1B~M%XKR"/>
          <p:cNvPicPr/>
          <p:nvPr/>
        </p:nvPicPr>
        <p:blipFill>
          <a:blip r:embed="rId1"/>
          <a:stretch/>
        </p:blipFill>
        <p:spPr>
          <a:xfrm>
            <a:off x="5076720" y="4292640"/>
            <a:ext cx="2911680" cy="2087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M)KKDF1N$XKTY_]U_QW4BS1"/>
          <p:cNvPicPr/>
          <p:nvPr/>
        </p:nvPicPr>
        <p:blipFill>
          <a:blip r:embed="rId2"/>
          <a:stretch/>
        </p:blipFill>
        <p:spPr>
          <a:xfrm>
            <a:off x="1476360" y="4292640"/>
            <a:ext cx="2695680" cy="204768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755280" y="1483920"/>
            <a:ext cx="74674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8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选择性肌力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9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8" name="Picture 4" descr="$13RHVFRJBH$H8MBS91}Y9Q"/>
          <p:cNvPicPr/>
          <p:nvPr/>
        </p:nvPicPr>
        <p:blipFill>
          <a:blip r:embed="rId1"/>
          <a:stretch/>
        </p:blipFill>
        <p:spPr>
          <a:xfrm>
            <a:off x="1763640" y="2349360"/>
            <a:ext cx="2219400" cy="191484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3640" y="1341000"/>
            <a:ext cx="6337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四、康复护理措施（中后期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4920" y="2060280"/>
            <a:ext cx="74674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功能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 ADL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假肢和矫形器的使用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161928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560" y="1483920"/>
            <a:ext cx="61930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四、康复护理措施（并发症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8920" y="2276640"/>
            <a:ext cx="638676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泌尿系统并发症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下肢深静脉血栓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异位骨化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 .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痉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骨质疏松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161928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58920" y="1196640"/>
            <a:ext cx="446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五、康复护理指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4920" y="2060280"/>
            <a:ext cx="746748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饮食调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皮肤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调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出院后的继续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预防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防止意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回归社会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161928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1197000"/>
            <a:ext cx="41054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二、主要功能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8000" y="2133360"/>
            <a:ext cx="82915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运动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肌力：主要表现为脊髓损伤平面以下肌力减退或消失，造成自主运动功能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肌张力：主要表现为脊髓损伤平面以下肌张力的增加或降低，影响运动功能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161928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1"/>
          <p:cNvSpPr/>
          <p:nvPr/>
        </p:nvSpPr>
        <p:spPr>
          <a:xfrm>
            <a:off x="684360" y="1773360"/>
            <a:ext cx="7632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反射功能：主要表现为脊髓损伤平面以下反射消失、减弱或亢进，出现病理反射。通常把涉及双下肢、部分或全部躯干的损伤称为截瘫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paraplegia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，四肢、躯干部分或全部均受累者称为四肢瘫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quadriplegia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042560" y="2060640"/>
            <a:ext cx="69850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感觉障碍：脊髓损伤平面以下感觉（痛温觉、触压觉和本体觉）的减退、消失或感觉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84000" y="1052280"/>
            <a:ext cx="7993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痉挛性或反射性膀胱：是指膀胱充盈时，自动反射会触发其排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无力性或非反射性膀胱：是指膀胱对刺激无反射或反射减弱。当膀胱充盈时，患者无法感知，往往出现膀胱壁的过度扩张或延伸，造成尿液反流至输尿管和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971280" y="1341360"/>
            <a:ext cx="74674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直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因结肠、直肠的蠕动运动麻痹而粪便变硬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因肛门括约肌瘫痪，直肠内的粪便溢出而出现便失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26560" y="2349360"/>
            <a:ext cx="77058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自主神经功能障碍：高热、心动过缓、体位性低血压、皮肤脱屑及水肿、角化过度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042920" y="1989000"/>
            <a:ext cx="746784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并发症：压疮、尿路感染、呼吸系统并发症、排便功能障碍、痉挛、神经痛、关节挛缩、深静脉血栓与肺栓塞、异位骨化、骨质疏松和高钙血症等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8:28:13Z</dcterms:modified>
  <cp:revision>3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